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9265-24CB-45BB-9C7F-68046675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B67-5527-401F-A7AD-0E5AAEE3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99F4-0EB9-4E2C-BE5E-477FAB34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6A65-08BD-49E7-83CF-4C11172A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450-9839-4FB5-B839-F6CA56BE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7510-949D-4820-8800-0732A49A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12EA-ECDE-49D7-94F4-D0E7AB88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E88-C8E4-42E8-807C-64C1FAAB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F29-3A35-4B43-BF6F-0222157E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600F-0B1E-43D9-B46E-41149D84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B73-D030-4B77-B646-309C89AA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292-24F2-4041-BB64-D112ACDF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4860-269B-44FD-B621-56328982F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K cel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1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000" y="692280"/>
            <a:ext cx="854856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5920" y="781200"/>
            <a:ext cx="837072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572000" cy="4163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95680" y="685800"/>
            <a:ext cx="41655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06560" y="1441440"/>
            <a:ext cx="35308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9760" y="584280"/>
            <a:ext cx="86630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170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4:29:08Z</dcterms:created>
  <dc:creator>Penelope Morel</dc:creator>
  <dc:description/>
  <dc:language>en-US</dc:language>
  <cp:lastModifiedBy>Penelope Morel</cp:lastModifiedBy>
  <dcterms:modified xsi:type="dcterms:W3CDTF">2008-08-21T14:39:21Z</dcterms:modified>
  <cp:revision>1</cp:revision>
  <dc:subject/>
  <dc:title>NK cell ontology</dc:title>
</cp:coreProperties>
</file>